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D61A7-6587-4BAE-BA63-9E1542E13D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2518E-52F0-4C3D-9C15-D6AF21FF0DC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05BDE-85CE-428E-A358-3B5E6BEBE04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FBF5C-F84F-4DD1-8F02-EACD1E5585D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A7623-EF05-486A-94B4-1CF2F48BA85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11329-15AE-4DEF-8919-C2C52E9632C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1A0E7-C3A1-44E3-A3D2-0CDCB899CA1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6AA0C-4D01-4A64-8549-9877C815C10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5D84D-7713-4D9D-BE34-B8C280CBA30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2A452-90E7-425C-B164-B2888B89BB5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32B2C-2F7E-4335-ABEC-F2C5D905C0F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CECC3-A1A3-4FCC-BC7C-6E0853C2DCA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E0A2F-0FF3-4A2F-B1CC-4DCC14CC015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B48D4-CBC9-4ED0-A6B1-23D36EB8716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78ED0-2783-4D38-A4BA-D56B19F1B5E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A691F-8541-40FD-A8F1-913B4886657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DA582-DAD3-4B00-ABDE-4F624F1419F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7AFEA-7D3E-4058-8958-9FB7F3BD6A9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C1758-20A7-4A48-86C3-6D791230E96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153DF-8082-451D-B0C8-BD5C546930B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7802F-619E-4F7C-B1B1-64BF9051332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A5A07-E55B-4A1B-BA4B-50BE90B3D38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23085-2E25-4671-9A59-BF8A2AD3A36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51044-738E-403F-A0EF-A1552772F9D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F205-3371-418D-9B60-5E851E0EA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A641-179C-4031-9E94-8E5DD3616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E413-F093-4E79-80AF-4D524ADE1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F72F-F7BC-4034-A543-82D0C877B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A5FB0-AB99-472A-9320-4B64EEE3A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8A22C-3F88-4A8B-AE24-FB6505399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037EF-4775-4097-AE7E-B19888CC0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3A874-875B-4816-9934-14666D6BE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2E993-E910-4208-8143-465B953D2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687E6-C854-4D28-AF4A-497B677A3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D0F87-899B-4EF7-8F19-386D0490D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A073-277F-4B31-8D75-26DA19F3E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25BBB-9E28-40F4-BCA5-477CA409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D8456-2D28-4CC0-A0B7-00DE768C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3D235-35AF-40D7-B57A-DC2716DFA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E4AFD-7A65-4A32-93F0-C0F3C44D5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0170E-C32B-439D-A444-03F2A36A5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728F-256E-44A4-84A7-0801EC4CE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9074-8DE8-4D8B-8AE5-A8D21E46C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6E19-8813-4868-B555-03121D3AE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3196-0A5F-4F8F-A099-E608C9C26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4C0E-392B-4A5D-96FE-41299FC9E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E71C-FA92-4B24-8570-558F342E1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C3BE-2736-44F1-ACD7-283E0C8D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DA440-3B15-4E51-B971-FA9AF1B2FAD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BE805-6432-4F2D-8286-F043D587EB0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driedigerfarms.com/wholesale/ipm/ladybugmd.jpg&amp;imgrefurl=http://www.driedigerfarms.com/wholesale/ipm/&amp;h=253&amp;w=300&amp;sz=26&amp;tbnid=EyfZQcWjuM8J:&amp;tbnh=93&amp;tbnw=110&amp;start=36&amp;prev=/images%3Fq%3Dintegrated%2Bpest%2Bmanagement%26start%3D20%26hl%3Den%26lr%3D%26sa%3DN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hapter 12 – Agriculture and the Environmen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98" name="Picture 4" descr="feedlot_lg"/>
          <p:cNvPicPr/>
          <p:nvPr/>
        </p:nvPicPr>
        <p:blipFill>
          <a:blip r:embed="rId1"/>
          <a:stretch/>
        </p:blipFill>
        <p:spPr>
          <a:xfrm>
            <a:off x="533520" y="3270240"/>
            <a:ext cx="777240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Integrated Pest Managemen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4800240"/>
            <a:ext cx="82296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5" descr="ladybugm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848720" y="152280"/>
            <a:ext cx="1047600" cy="885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photo: Blackheaded fireworm larva"/>
          <p:cNvPicPr/>
          <p:nvPr/>
        </p:nvPicPr>
        <p:blipFill>
          <a:blip r:embed="rId3"/>
          <a:stretch/>
        </p:blipFill>
        <p:spPr>
          <a:xfrm>
            <a:off x="685800" y="1523880"/>
            <a:ext cx="1600200" cy="28861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8"/>
          <p:cNvSpPr/>
          <p:nvPr/>
        </p:nvSpPr>
        <p:spPr>
          <a:xfrm>
            <a:off x="762120" y="4952880"/>
            <a:ext cx="30477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ranberry and damage: black headed fireworm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sonal flooding to control i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Picture 10" descr="photo: Fireworm larvae damage"/>
          <p:cNvPicPr/>
          <p:nvPr/>
        </p:nvPicPr>
        <p:blipFill>
          <a:blip r:embed="rId4"/>
          <a:stretch/>
        </p:blipFill>
        <p:spPr>
          <a:xfrm>
            <a:off x="2590920" y="1523880"/>
            <a:ext cx="1447560" cy="2924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2" descr="a-cuc"/>
          <p:cNvPicPr/>
          <p:nvPr/>
        </p:nvPicPr>
        <p:blipFill>
          <a:blip r:embed="rId5"/>
          <a:stretch/>
        </p:blipFill>
        <p:spPr>
          <a:xfrm>
            <a:off x="4267080" y="1523880"/>
            <a:ext cx="1905120" cy="30481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thrips"/>
          <p:cNvPicPr/>
          <p:nvPr/>
        </p:nvPicPr>
        <p:blipFill>
          <a:blip r:embed="rId6"/>
          <a:stretch/>
        </p:blipFill>
        <p:spPr>
          <a:xfrm>
            <a:off x="6477120" y="1523880"/>
            <a:ext cx="1904760" cy="29718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6"/>
          <p:cNvSpPr/>
          <p:nvPr/>
        </p:nvSpPr>
        <p:spPr>
          <a:xfrm>
            <a:off x="4267080" y="4952880"/>
            <a:ext cx="40388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ft photo:  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predatory mite (IPM)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vouring a thrips, an agicultural pest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ight photo:  the thrips by itself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IPM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ims at control not eli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s a combo of methods incl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iological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ertain insecticid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ertain crop planting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GM Crop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erhybrid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rminator Ge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ene transfer (transgenic crop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Desertifica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Some Causes of Desertifi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Poor farming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Overgraz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Chemical poisoning of the soi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Kesterson Wildlife Refug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0481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rtificial wetlan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arly 1980s received agricultural drainage wa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as supposed to drain to sea, didn’t finish it (oops!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lenium accumulated in wa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ver-irrigating to leach out salt buildup  caused the probl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Picture 5" descr="image of location map shows kesterson national wildlife refuge, cretaceous and tertiary sedimentary basins, and locations of onshore oil and gas fields, highlighting the Cheney Ranch 1 and Magnet Fearon 2 oil wells"/>
          <p:cNvPicPr/>
          <p:nvPr/>
        </p:nvPicPr>
        <p:blipFill>
          <a:blip r:embed="rId1"/>
          <a:stretch/>
        </p:blipFill>
        <p:spPr>
          <a:xfrm>
            <a:off x="3505320" y="1676520"/>
            <a:ext cx="488628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581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rmal embry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assified a toxi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ste si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ing at plans to continue drainage to se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Picture 5" descr="image of a normal, upper left, and deformed birds from the kesterson national wildlife refuge in california's central valley"/>
          <p:cNvPicPr/>
          <p:nvPr/>
        </p:nvPicPr>
        <p:blipFill>
          <a:blip r:embed="rId1"/>
          <a:stretch/>
        </p:blipFill>
        <p:spPr>
          <a:xfrm>
            <a:off x="4114800" y="1447920"/>
            <a:ext cx="4019400" cy="5105160"/>
          </a:xfrm>
          <a:prstGeom prst="rect">
            <a:avLst/>
          </a:prstGeom>
          <a:ln w="0">
            <a:noFill/>
          </a:ln>
        </p:spPr>
      </p:pic>
      <p:sp>
        <p:nvSpPr>
          <p:cNvPr id="140" name="Line 6"/>
          <p:cNvSpPr/>
          <p:nvPr/>
        </p:nvSpPr>
        <p:spPr>
          <a:xfrm>
            <a:off x="3429000" y="1981080"/>
            <a:ext cx="990720" cy="4572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6858000" y="63244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ey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4648320" y="624852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fe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Line 9"/>
          <p:cNvSpPr/>
          <p:nvPr/>
        </p:nvSpPr>
        <p:spPr>
          <a:xfrm flipH="1" flipV="1">
            <a:off x="7238520" y="5257440"/>
            <a:ext cx="228600" cy="10666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10"/>
          <p:cNvSpPr/>
          <p:nvPr/>
        </p:nvSpPr>
        <p:spPr>
          <a:xfrm flipV="1">
            <a:off x="5105520" y="5333760"/>
            <a:ext cx="0" cy="990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9900"/>
                </a:solidFill>
                <a:latin typeface="Garamond"/>
              </a:rPr>
              <a:t>Desertification</a:t>
            </a:r>
            <a:endParaRPr b="0" lang="en-US" sz="4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Caus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Diverting wat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Cutting tre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Minin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Changing weather patterns/ Global climate chan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6600"/>
                </a:solidFill>
                <a:latin typeface="Garamond"/>
              </a:rPr>
              <a:t>Desertification data</a:t>
            </a:r>
            <a:endParaRPr b="0" lang="en-US" sz="4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00"/>
                </a:solidFill>
                <a:latin typeface="Verdana"/>
              </a:rPr>
              <a:t>Who’s most immediately affecte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00"/>
                </a:solidFill>
                <a:latin typeface="Verdana"/>
              </a:rPr>
              <a:t>70 percent of the world's drylands are degraded </a:t>
            </a:r>
            <a:br>
              <a:rPr sz="2400"/>
            </a:br>
            <a:r>
              <a:rPr b="0" lang="en-US" sz="24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00"/>
                </a:solidFill>
                <a:latin typeface="Verdana"/>
              </a:rPr>
              <a:t>                                    </a:t>
            </a:r>
            <a:r>
              <a:rPr b="0" lang="en-US" sz="2400" spc="-1" strike="noStrike">
                <a:solidFill>
                  <a:srgbClr val="666600"/>
                </a:solidFill>
                <a:latin typeface="Verdana"/>
              </a:rPr>
              <a:t>in the world are affected to some degree by desertification. </a:t>
            </a:r>
            <a:br>
              <a:rPr sz="2400"/>
            </a:br>
            <a:r>
              <a:rPr b="0" lang="en-US" sz="24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00"/>
                </a:solidFill>
                <a:latin typeface="Verdana"/>
              </a:rPr>
              <a:t>Globally it is estimated that the annual income lost in the areas affected by desertification =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5" descr="Map of Africa Indicating Desertification"/>
          <p:cNvPicPr/>
          <p:nvPr/>
        </p:nvPicPr>
        <p:blipFill>
          <a:blip r:embed="rId1"/>
          <a:stretch/>
        </p:blipFill>
        <p:spPr>
          <a:xfrm>
            <a:off x="762120" y="533520"/>
            <a:ext cx="761976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5" descr="Map59"/>
          <p:cNvPicPr/>
          <p:nvPr/>
        </p:nvPicPr>
        <p:blipFill>
          <a:blip r:embed="rId1"/>
          <a:stretch/>
        </p:blipFill>
        <p:spPr>
          <a:xfrm>
            <a:off x="380880" y="380880"/>
            <a:ext cx="84582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Soil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00"/>
                </a:solidFill>
                <a:latin typeface="Verdana"/>
              </a:rPr>
              <a:t>Text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5" descr="soilparticles"/>
          <p:cNvPicPr/>
          <p:nvPr/>
        </p:nvPicPr>
        <p:blipFill>
          <a:blip r:embed="rId1"/>
          <a:stretch/>
        </p:blipFill>
        <p:spPr>
          <a:xfrm>
            <a:off x="2362320" y="380880"/>
            <a:ext cx="6172200" cy="6248520"/>
          </a:xfrm>
          <a:prstGeom prst="rect">
            <a:avLst/>
          </a:prstGeom>
          <a:ln w="0">
            <a:noFill/>
          </a:ln>
        </p:spPr>
      </p:pic>
      <p:sp>
        <p:nvSpPr>
          <p:cNvPr id="102" name="Line 7"/>
          <p:cNvSpPr/>
          <p:nvPr/>
        </p:nvSpPr>
        <p:spPr>
          <a:xfrm flipH="1">
            <a:off x="6171840" y="5181480"/>
            <a:ext cx="228600" cy="2286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9900"/>
                </a:solidFill>
                <a:uFillTx/>
                <a:latin typeface="Garamond"/>
              </a:rPr>
              <a:t>Important Legisla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ervation Research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od Securities A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8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stainable Agriculture Research and Education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UNCCD: 1996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 Convention to Combat Deser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00 nations rat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500 million dollars to fund projects to stop 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Factory Farming: Increasing produc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tibiotics are commonly used in animal produ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imals are bred to grow faster and to be more desirable for marke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.g chickens with more breast mea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nthetic hormones are approved for 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owth hormo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lk production hormo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Beef Produc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edlot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d corn instead of gras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fined in a small are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cal material accumulat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ease spreads readi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micals used to control dise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Waste Production...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ter conta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eatment require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dor/airborne proble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ste treatment regulations are more lax than for waste from peop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Soil Eros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409720" y="2685600"/>
            <a:ext cx="40086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 - organic materi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–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000" spc="-1" strike="noStrike">
                <a:solidFill>
                  <a:srgbClr val="ff1111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1111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1111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1111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top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erals (bottom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 - zone of leach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 – high in leached minerals from abo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 – original parent material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Picture 5" descr="112"/>
          <p:cNvPicPr/>
          <p:nvPr/>
        </p:nvPicPr>
        <p:blipFill>
          <a:blip r:embed="rId1"/>
          <a:stretch/>
        </p:blipFill>
        <p:spPr>
          <a:xfrm>
            <a:off x="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5410080" y="1219320"/>
            <a:ext cx="3733920" cy="45972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IL STRUCTU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Goals of sustainable farming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.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.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Sustainable farming practices</a:t>
            </a:r>
            <a:br>
              <a:rPr sz="4000"/>
            </a:b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The following reduce soil erosion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00"/>
                </a:solidFill>
                <a:latin typeface="Verdana"/>
              </a:rPr>
              <a:t>Contour plowing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00"/>
                </a:solidFill>
                <a:latin typeface="Verdana"/>
              </a:rPr>
              <a:t>Terracing hill sid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00"/>
                </a:solidFill>
                <a:latin typeface="Verdana"/>
              </a:rPr>
              <a:t>Shelterbelt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00"/>
                </a:solidFill>
                <a:latin typeface="Verdana"/>
              </a:rPr>
              <a:t>Low or No Till Plowing (wind and wate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rop Rotation (keeps nutrients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tating heavy feeders, moder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eeders with soil build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8" descr="crop rotation, three sisters"/>
          <p:cNvPicPr/>
          <p:nvPr/>
        </p:nvPicPr>
        <p:blipFill>
          <a:blip r:embed="rId1"/>
          <a:stretch/>
        </p:blipFill>
        <p:spPr>
          <a:xfrm>
            <a:off x="685800" y="838080"/>
            <a:ext cx="5029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ver Crop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lant during fallow(off) seas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eep nitrates from leaching out of topsoi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so keep soil orgs healthy and “fed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vents excess N from runoff into water suppl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Pest Managemen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oad spectr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rrow spectr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grated Pest Management (IPM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9T18:42:30Z</dcterms:created>
  <dc:creator>tosborne</dc:creator>
  <dc:description/>
  <dc:language>en-US</dc:language>
  <cp:lastModifiedBy>Teri Osborne</cp:lastModifiedBy>
  <dcterms:modified xsi:type="dcterms:W3CDTF">2010-11-15T02:55:51Z</dcterms:modified>
  <cp:revision>38</cp:revision>
  <dc:subject/>
  <dc:title>Slide 1</dc:title>
</cp:coreProperties>
</file>